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18F2B-B287-4D53-8941-57BDF2A01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9F5B9-26A2-4374-9C88-76B6A3066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F9A5B-25FA-41D0-8DC1-52E58F73E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EACCF-A947-425D-BE6E-35419FEB8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0248AF-81F5-4939-AED6-29AC56F37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CCD0C-E450-48C3-93E1-F5E3DDB06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B6FC9-C707-4098-A2F4-10811671C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B9A3A-4A92-4FE4-A7C2-FD9D6DAD9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E236B-7EC8-45A0-AB88-EC1AF1417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1FD06-8AE2-4066-94E8-9FBC6A326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034FE-C68F-4CF0-8516-B9E7A07FB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3456E-F0AA-4568-AF30-D9EED3A2C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38CDE-2E79-40D3-A9E9-453CDFF7E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76565-6835-4A80-AF7F-4004C84E8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39654-7C50-471B-92A1-31E35A605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BD034-F65B-4189-9BDD-A3357B839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BF3E1-CB0A-4214-93C5-55C28E540E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D405F-5C49-474B-A268-31D4E8708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F18BB-F63C-4C8A-A5C7-BEF896D4A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08F32-4ADA-48AC-B8FA-C54330EC0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FB2E8-186D-4686-8C39-2F2B6BC74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AB591-3436-4404-AB49-B5ACA7B94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8C734-480F-4F5A-8146-44136BED9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A00F3-BF27-4746-9BC5-1520C9DA8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3D8F-8A47-40A8-AC95-A96B4D07609E}"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4DC0-0E74-48A5-B1D0-D54C3AEB040A}"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Lucida Grande"/>
              </a:rPr>
              <a:t>Windows Movie Maker</a:t>
            </a:r>
            <a:r>
              <a:rPr b="0" lang="en-US" sz="3200" spc="-1" strike="noStrike">
                <a:solidFill>
                  <a:srgbClr val="5d2204"/>
                </a:solidFill>
                <a:latin typeface="Arial"/>
              </a:rPr>
              <a:t> </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6-12/Session 1 of 3</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shop Titl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udents will share the following aspects of their projec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process of importing video.</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xplain what was edited from your movie and why it was cu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hat part of this lesson do you feel students in other classes will need the most help with?</a:t>
            </a:r>
            <a:endParaRPr b="0" lang="en-US" sz="2400" spc="-1" strike="noStrike">
              <a:solidFill>
                <a:srgbClr val="212164"/>
              </a:solidFill>
              <a:latin typeface="Arial"/>
            </a:endParaRPr>
          </a:p>
        </p:txBody>
      </p:sp>
      <p:sp>
        <p:nvSpPr>
          <p:cNvPr id="109"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1"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oday we have seen how the choices we make as editors can effect the flow of the story.</a:t>
            </a: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27432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import digital media into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27432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edit digital film in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endParaRPr b="0" lang="en-US" sz="2400" spc="-1" strike="noStrike">
              <a:solidFill>
                <a:srgbClr val="212164"/>
              </a:solidFill>
              <a:latin typeface="Arial"/>
            </a:endParaRPr>
          </a:p>
          <a:p>
            <a:pPr marL="27432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	</a:t>
            </a:r>
            <a:r>
              <a:rPr b="0" lang="en-US" sz="3200" spc="-1" strike="noStrike">
                <a:solidFill>
                  <a:srgbClr val="212164"/>
                </a:solidFill>
                <a:latin typeface="Lucida Grande"/>
              </a:rPr>
              <a:t>How can we import and edit video footage in Windows Movie Maker?</a:t>
            </a:r>
            <a:endParaRPr b="0" lang="en-US" sz="32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use Windows Movie Maker to tell a story?</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save a movie project?</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How a director chooses to edit clips effects the way the story is told to the viewer. What choices do we make when selecting scenes? Can we take the footage, edit it, and turn it into a story?</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his lesson will focus on the following skills:</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ing video into </a:t>
            </a:r>
            <a:r>
              <a:rPr b="0" lang="en-US" sz="2400" spc="-1" strike="noStrike">
                <a:solidFill>
                  <a:srgbClr val="212164"/>
                </a:solidFill>
                <a:latin typeface="Lucida Grande"/>
              </a:rPr>
              <a:t>Windows Movie Maker</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ing video clips in </a:t>
            </a:r>
            <a:r>
              <a:rPr b="0" lang="en-US" sz="2400" spc="-1" strike="noStrike">
                <a:solidFill>
                  <a:srgbClr val="212164"/>
                </a:solidFill>
                <a:latin typeface="Lucida Grande"/>
              </a:rPr>
              <a:t>Windows Movie Maker</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a </a:t>
            </a:r>
            <a:r>
              <a:rPr b="0" lang="en-US" sz="2400" spc="-1" strike="noStrike">
                <a:solidFill>
                  <a:srgbClr val="212164"/>
                </a:solidFill>
                <a:latin typeface="Lucida Grande"/>
              </a:rPr>
              <a:t>Windows Movie Maker</a:t>
            </a:r>
            <a:r>
              <a:rPr b="0" lang="en-US" sz="2400" spc="-1" strike="noStrike">
                <a:solidFill>
                  <a:srgbClr val="212164"/>
                </a:solidFill>
                <a:latin typeface="Arial"/>
              </a:rPr>
              <a:t> project</a:t>
            </a:r>
            <a:endParaRPr b="0" lang="en-US" sz="2400" spc="-1" strike="noStrike">
              <a:solidFill>
                <a:srgbClr val="212164"/>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What are some of the sources of digital video?</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video camera</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Online download (United Streaming, this lesson)</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DVD (and additional software to import movie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oday’s skill will focus on:</a:t>
            </a:r>
            <a:endParaRPr b="0" lang="en-US" sz="28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importing digital video into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editing digital video (trim clips, split clips, and add clips to the timelin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movie projects</a:t>
            </a: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Lucida Grande"/>
              </a:rPr>
              <a:t>(see the tutorial for lesson 1 for specific directions)</a:t>
            </a: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ake the next 30 minutes to import video and begin editing your footage. Then we will come back together and share.</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Participant Activity</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 video into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rag clips into the Timeline and place them in order.</a:t>
            </a:r>
            <a:endParaRPr b="0" lang="en-US" sz="2400" spc="-1" strike="noStrike">
              <a:solidFill>
                <a:srgbClr val="212164"/>
              </a:solidFill>
              <a:latin typeface="Arial"/>
            </a:endParaRPr>
          </a:p>
          <a:p>
            <a:pPr marL="343080" indent="-343080">
              <a:lnSpc>
                <a:spcPct val="90000"/>
              </a:lnSpc>
              <a:spcBef>
                <a:spcPts val="601"/>
              </a:spcBef>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Edit clips using the Crop and Split Clip at Playhead feature.</a:t>
            </a:r>
            <a:endParaRPr b="0" lang="en-US" sz="2400" spc="-1" strike="noStrike">
              <a:solidFill>
                <a:srgbClr val="212164"/>
              </a:solidFill>
              <a:latin typeface="Arial"/>
            </a:endParaRPr>
          </a:p>
          <a:p>
            <a:pPr marL="343080" indent="-343080">
              <a:lnSpc>
                <a:spcPct val="90000"/>
              </a:lnSpc>
              <a:spcBef>
                <a:spcPts val="601"/>
              </a:spcBef>
              <a:spcAft>
                <a:spcPts val="1599"/>
              </a:spcAft>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e the </a:t>
            </a:r>
            <a:r>
              <a:rPr b="0" lang="en-US" sz="2400" spc="-1" strike="noStrike">
                <a:solidFill>
                  <a:srgbClr val="212164"/>
                </a:solidFill>
                <a:latin typeface="Lucida Grande"/>
              </a:rPr>
              <a:t>Windows Movie Maker</a:t>
            </a:r>
            <a:r>
              <a:rPr b="0" lang="en-US" sz="2400" spc="-1" strike="noStrike">
                <a:solidFill>
                  <a:srgbClr val="212164"/>
                </a:solidFill>
                <a:latin typeface="Arial"/>
              </a:rPr>
              <a:t> project.</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 DOE</cp:lastModifiedBy>
  <dcterms:modified xsi:type="dcterms:W3CDTF">2007-03-06T17:09:18Z</dcterms:modified>
  <cp:revision>39</cp:revision>
  <dc:subject/>
  <dc:title>Workshop Title</dc:title>
</cp:coreProperties>
</file>